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7661-1239-4404-BD9B-0D99A591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7B26-7984-4A1A-8A44-31FF57A3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C173-61D6-4674-BD23-55D53B82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BBC4-852A-4769-86D1-B17C8CC5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B646-E616-4DA2-8C55-0D29186C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EFF9-0666-4037-813C-0BC5EA63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5434-34A6-4C6D-A08A-A565BD57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119C-64D0-4350-94A6-10A4DEC9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2DD3-FD8B-4FD7-9176-2D31C373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C52-0CAA-41E0-AEAE-8B6E1DB8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5BFB-32CE-4A04-83F6-1817827D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B915-C77C-4A9C-B720-FA0CEAFC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2399-4174-446F-BDB0-6D039CF1C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20806800">
            <a:off x="611280" y="105264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Eras Bold ITC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Eras Bold ITC"/>
              </a:rPr>
              <a:t>Elle avait raison.  Il n’y avait pas d’issue” – p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806800">
            <a:off x="900000" y="335772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Eras Bold ITC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Eras Bold ITC"/>
              </a:rPr>
              <a:t>Je me suis souvenu alors de ce que disait l’infirmière à l’enterrement de maman.  Non, il n’y avait pas d’issue et personne ne peut imaginer ce que sont les soirs dans les prisons” – p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8:06:33Z</dcterms:created>
  <dc:creator>Steve Badger</dc:creator>
  <dc:description/>
  <dc:language>en-US</dc:language>
  <cp:lastModifiedBy>badgers</cp:lastModifiedBy>
  <dcterms:modified xsi:type="dcterms:W3CDTF">2006-09-28T16:14:15Z</dcterms:modified>
  <cp:revision>3</cp:revision>
  <dc:subject/>
  <dc:title>Slide 1</dc:title>
</cp:coreProperties>
</file>